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506-260A-4223-9D7B-8FABB40B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BFD-26D4-4131-BECE-0B334E0E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D9ED8-A5D1-443C-B253-7060CA3F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12E5F-C8BF-4E9D-ACC6-B181BE7C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09676-A94D-4490-B866-D593D0E4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2118F-350A-4D33-BCC7-BC6424DC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BBB04-2B4D-4F71-9330-181B2898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18514-C54B-4DB6-B593-3D468555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5FFA2-A6FF-4EED-8C22-C0ECE31C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F18FB-4A21-43FE-BE83-9D3AB599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E4791-A878-4B64-84E6-F1E24DE2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84BC9-9F38-4C43-9AEE-2518A428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929-7CD8-4964-8E42-FD781898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3068C-ADFF-4DE2-AFEA-89480B7C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E8260-6838-4794-AF02-51738234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EC0FD-8431-495E-ABA8-6B6D54BB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6829E-FCEC-4F36-938E-8A194283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4FEE1-44F3-4F52-AC6C-ABE5859E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F4B4F-FF13-49B8-8D98-450C6690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E99A8-9220-43D0-8D84-56B70906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F0B75-4EB9-48FB-B8B9-6CFCC8A6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5B80C-A045-40A7-93ED-A3C57B8B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08ADA-54C1-4330-862F-12811489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F67-325B-4E7A-B343-CD9CB73F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AE314-69F5-4779-AF60-56248B27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3BD23-35AF-4AB3-9863-B879C7E4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E3812-AFA7-4AAF-AF10-46B0140C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01BBD-6E55-43DC-80A2-4EFF490F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368B4-331B-450D-9B28-30215105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0D9CB-3CBC-421D-A79E-06369079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86CAE-5AF6-4C04-862C-5CCA24B1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31508-41FF-400C-B1FE-09774717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5BB9C-CC38-4E5E-8A7B-29D3F17B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4EEF6-CD46-4EEA-8066-094CBEB5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791C-F65C-4F86-95B5-AFEEB9FE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E9499-EEAD-44C2-A2B6-B66A247A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3509D-CF1F-4135-8193-AF8DFBB2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DB18C-8C2A-4EB5-AF05-0315BC1C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C154D-3D72-439F-B5D2-F7948354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D9266-86BF-450E-B79A-31D57EDF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4090E-6DB8-4B1D-AEFE-6CAA5BA6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E3CF0-21C4-4D04-92B4-BCF65D98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FC3BB-CC2A-4D93-A1AB-09A75830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593CD-615E-436C-A396-6C4B0C6D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0BE70-E7FF-439F-B46A-F7598D3B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B6C3-EDE3-4034-954F-F4CA6A7D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0A3E7-448D-42C5-81D2-724056E7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5641F-48AD-4099-9FDB-12D2F4CF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A823F-CCAD-44B5-BC3E-2A686AF5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C9EAA-02B0-41B0-B74B-3A470B56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1CCAC-495C-4DFA-BF50-B26C7E2F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8703-8EAF-481D-A973-ACD25116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7B3C-9D71-4CDF-BD80-D08A2B9E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7EC0-E229-4AA3-8928-DE5F14FF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6103-76A3-44F3-B5C5-022738E7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C850-E5FD-44C4-8FFA-46B31BA2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42A-5877-4068-9294-F56FACA6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4AE4-5B75-442F-A352-684D3B08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3631-60EB-4E3B-B56A-2AB37DB1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265C-16D2-4B10-8F67-8FB65768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B386-0BB2-4518-B127-F5AD7E35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AAA1-ED36-451D-9174-033D5184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9077-5418-41A5-9378-A50019EB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C19AC-F14A-4EAF-980F-6C224F3D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A727A-D105-4A66-8105-C26C5681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EA81E-8A9C-4486-833E-00D5FDA3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6A3C4-25B4-4796-A450-15BF0012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0FA-ADA5-4597-A578-D760F10D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AEBD9-64FC-4AE2-9AC2-0BC33EF4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8C342-B362-4CB9-AAC1-D05CA0AF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EA256-4D04-4BF2-9466-2A919E2E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787B-C5D6-42AF-B41D-DC0E0B77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5A08-B473-41F6-BDF3-12A98F3E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53B8F-F824-421F-AC31-4D0E54AD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3D8BE-8AC8-4CA6-9685-8D19FFFE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60021-00A8-4BE6-8421-B0969A90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830D0-917C-4A5E-AAE3-806E5147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AD4CB-6ACA-45C1-8336-EB5899E5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AB9-A565-449A-A98C-DE233C51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1A068-CD01-426F-9E2A-7B7BE80E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F134-A184-481B-8700-8EB1537A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FF6CB-EA34-4FD9-AE8C-1963DF7C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C63E4-76EF-4D2B-9D34-772B424B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AB3B4-1EA3-4AB0-B0E7-25650C33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1AEA7-F7EB-45FD-A7F8-990DAE2B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6CC0A-7BB0-479B-92C4-0EEC9F8E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612C9-13BE-47CA-8EE5-E3D2836C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B64A7-A7AB-4F34-B2E1-6B032B1A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E5003-9B3B-4E46-83C0-CEF12AE2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AED-EE65-4083-A2DF-1CC05247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F8ABC-D83F-453C-A037-70735E8B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347CD-BD1A-493F-867C-C4586266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CF0AF-CE12-468F-B214-8A20C49A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81A95-189C-4159-8238-9BE49E15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DB3F8-B566-4662-A900-CA60FDC9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958F6-16E8-4B31-ADB3-C7706399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EE97D-3C0A-4D1D-BCB2-57A048E2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68583-B3B9-4EE3-89BB-7C0DAD6C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C1489-6FA1-431F-A460-527D7C68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5A38D-4BCA-4A5E-B499-4707BE43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220-C73D-4246-82D6-92638928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94C20-24CE-4C2D-819C-95979CEF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B8B15-592B-44DA-8B5D-F9D1DD2A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D5621-8E98-43F8-8BA6-36BDF65C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EC9F6-4E76-4EF6-9AE2-E2CF25A4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32CE3-2EF7-4532-AA46-F75A1344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55E45-450D-4756-86AC-11F13720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70616-2D5B-4F32-9FF5-46EED56E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34D86-0343-4488-A4A4-004B6E3B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C26ED-19FA-48E8-937D-D47532C9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6F40-1EFF-4939-84BB-558088A9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B4F-A368-4F90-85FF-BD56F41C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E6AA2-1C31-461A-8EAF-0BDD4E5B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66B7A-AD88-4DDA-9D1E-CF9C3F37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A9EDD-FA0D-45E0-9D89-3D8D65D8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B526F-7285-44C9-926C-0D4B68BC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05A08-D0B3-4ECB-AE3A-CE5792EC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0EF15-D2F7-4332-8F2A-1BC06C47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DB19A-1FBB-4A1D-BFB2-F89E4C65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8ED9F-5AAE-41A4-AA54-9C8EA803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DD1C3-CDA1-4655-8E74-708F9454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9FF5D-FE0D-4A8D-91AF-D5AE305A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69D-51FB-4C46-9239-16E3C4F8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52E48-6CEE-44D7-A758-7E60C776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0A8FA-0F2E-4E0D-82A4-83EA9C84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81CD7-319C-43B7-8277-90EE2CA0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8BF79-83B5-490E-8FB2-2828F412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AED0D-8A21-4873-ACC9-E38E618A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DA440-C4A7-4C3D-A91F-255FFB13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D9610-03D0-48F0-A828-60C416E9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A6DBD-1F3B-4181-8799-8D59E21F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B4D18-988F-4E36-9B9C-DD2F5916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BAC0D-D9D7-42BE-9841-01C77CB2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2FC-2068-400A-9262-18E11983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1727E-AE4D-46C1-B4C0-347EB809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3CC25-F707-4E44-9ACE-C29B957C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92CC1-A6A4-457D-BF78-349874A6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EDD99-3896-4B19-8593-A67AA38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AF08B-EFF8-497E-891E-CA1D8FE3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911BB-69AF-46B7-9A72-88D890A5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BE18B-7E74-4CCA-89DA-C2DBB28E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1349C-6C34-4BE5-89ED-3169979D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2C39B-0B06-45DC-BD28-5766E610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EB012-9FDC-433C-85BF-31A9E1A2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A71A-35DB-46D9-8AB8-E328315FBF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F1DB-7E31-4261-920E-82250CF15A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3765-3D45-4788-8652-9B587DD1EB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7B5F-BD8B-44DE-B686-A62F91C49A0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5D4F-EBF7-4F85-96AD-68C3C09876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6F8B-3114-43F3-BDFD-EF9DCFB476F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91C4-1588-4375-A6EC-5168A87FB7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BCCD-F098-4056-908F-A67BEBD56A1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7CDE-C28E-4B64-B8E2-7B924C1264D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FA15-3D67-48C2-9F92-4AB0D39303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856E-D29D-4CC9-9C4D-77F3212028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3E0B-10BD-45F8-A27C-DB68ABE8CA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92 Z lásky zdroja svojho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zdroja svojho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laž naše srdcia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skvitol požehna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írošíry sveta l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náš, Otč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om svoj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ud svoj zvla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ej vlieva Slovo tvo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ši hriechom zmámen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ťazné viesť pomôž bo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zbroji Ducha bezpečn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náš, Otč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rž nad nami stálu strá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e, ty si večný, stá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ľuby svoje nemení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y tvojej vzácne da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om svojím rozhojníš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náš, Otč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sou z n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ud svoj zvla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om svojím, Bože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ôsob mocne, srdcia zm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ľud tvoj láskou spät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a chválil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náš, Otč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júcich rád prijíma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14T18:11:07Z</dcterms:modified>
  <cp:revision>19</cp:revision>
  <dc:subject/>
  <dc:title>Je veľký náš Pán, on slávy je Kráľ Nech do všetkých strán  spev vrúcnych znie chvál.</dc:title>
</cp:coreProperties>
</file>